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1A49-2EEE-459F-8040-23E552AA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443C-85CF-400D-B5C4-24600D00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2E9-CA85-48F1-89AF-5BE30704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55C1-B69A-4A53-919E-80C947F9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FE2D-834C-4E90-A694-67C44746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60AA-D729-4AC6-9CF4-8E9335D9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298F-6337-452B-979F-1CD42D46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CA65-5D2B-43F2-A5C8-C3EAEC5C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E8B6-7894-4478-878A-5C242E23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6485-8128-4603-9FCC-B41DE248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296B-8B94-41BD-960B-C4CC0F1C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2AE-49F1-48BA-BD54-1D77FF7E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A988-ECF5-42FE-9043-244EF038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6297-3FE7-40EA-80A9-B4500201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EE3E-7BF3-41D6-8023-608AFA1E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0CFF-7D85-4C86-9A1D-C311082D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F792-7702-43DB-8B96-70A3F3DF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C81-173A-45F8-9A8F-7E69CF33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484E-4803-4197-9D1B-F838BE6C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867C-5C78-4B4D-A8B5-54F9A3A4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CC6-0C7E-4619-9D21-7C425DC0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4A7-B097-49B9-8955-301F66BB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47D5-5781-4087-8326-47EA2968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553-332D-4D60-924E-A9BEE64F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AE64-0CC6-4509-83D6-3684EEE3122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85C8-D6B3-4601-ABEB-BF02C64CA6F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ome thoughts to help you revise the IGCSE Poetry Anthology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t can’t do any harm to read it, can it 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range fits of passions….cont’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one of those sweet dreams I slept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ind Nature's gentlest boon!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all the while my eyes I kep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 the descending moon.                                 2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y horse moved on; hoof after hoo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 raised, and never stopped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en down behind the cottage roof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t once, the bright moon dropp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fond and wayward thoughts will slide      2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o a Lover's head!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"O mercy!" to myself I cried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"If Lucy should be dead!"      (1799.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st of the  Lucy po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LUMBER did my spirit seal;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had no human fears: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e seem'd a thing that could not feel 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touch of earthly yea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motion has she now, no force;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         5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e neither hears nor sees;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ll'd round in earth's diurnal course 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rocks, and stones, and trees. 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re is another powerpoint to help your revision….check it out….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’s called “How to answer on poetry in the examination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mes that link poems together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are some of the themes that the exam board identifies. There may be others, so look for them yourself……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injustice/lack of freedom/poverty: Carpet Weavers, Morocco; Song to the Men Of England; Spectator ab Extra; Muliebrity; Caged Bird; Plen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mes….cont’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ren/childhood: Rising Five; Little Boy Crying; Carpet Weavers, Morocco; Before the Sun; Plen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tality ( the inevitability of death): Rising Five; She dwelt among the untrodden ways; Before the Sun; The Old Familiar Faces; Mid-Term Brea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iry tales: Little Boy Crying; Storytell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mes….cont’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ure and Mankind’s relations with it: Rising Five; She dwelt among the untrodden ways; Before the Sun; Farmha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men (their roles as mothers and workers/their strength): Muliebrity; Plenty; Storyteller;She dwelt among the untrodden way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mes….cont’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pectives changing over time: Rising Five; Little Boy Crying; Plen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ults and Children: Little Boy Crying; Plen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ories and the Imagination: Little Boy Crying; Storyteller; Before the Sun; The Listen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Other Lucy Song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Slumber Did My Spirit Sea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lumber did my spirit seal;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had no human fears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e seemed a thing that could not feel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touch of earthly year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motion has she now, no force;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e neither hears nor sees;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lled round in earth's diurnal course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rocks, and stones, and tre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mes…… cont’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World of Work: carpet Weavers, Morocco; Monologue; Muliebrity; Farmha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st Person Narrative ( a story told using the pronouns I/me/mine): Monologue; Little Boy Crying, Plenty; Spectator ab Extra; Mid-Term Brea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rtrait of a character: Farmhand; Monologue; Plenty; Muliebrity; She dwelt among the untrodden way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Lucy Po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 TRAVELLED among unknown men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n lands beyond the sea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or, England! did I know till the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at love I bore to thee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'Tis past, that melancholy dream!                                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or will I quit thy sho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second time; for still I see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o love thee more and more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mong thy mountains did I feel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joy of my desire;                                                   1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d she I cherished turned her whee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eside an English fire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y mornings showed, thy nights concealed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bowers where Lucy played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d thine too is the last green field                              1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at Lucy's eyes surveyed.        (1799.)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Lucy Po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TRANGE fits of passion have I known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d I will dare to tell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But in the Lover's ear alone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hat once to me befell.                             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hen she I loved looked every day                     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resh as a rose in June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 to her cottage bent my way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Beneath an evening-moon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Upon the moon I fixed my eye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 over the wide lea;                                            1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ith quickening pace my horse drew nigh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hose paths so dear to me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d now we reached the orchard-plo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d, as we climbed the hill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he sinking moon to Lucy's cot                             1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ame near, and nearer still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0:56:13Z</dcterms:created>
  <dc:creator>skenny</dc:creator>
  <dc:description/>
  <dc:language>en-US</dc:language>
  <cp:lastModifiedBy>skenny</cp:lastModifiedBy>
  <dcterms:modified xsi:type="dcterms:W3CDTF">2008-03-18T03:26:53Z</dcterms:modified>
  <cp:revision>2</cp:revision>
  <dc:subject/>
  <dc:title>Some thoughts to help you revise the IGCSE Poetry Anthology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